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Компьютерное видео на примере работы с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29D7-7E64-4281-9325-DEB4933F087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26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6121440" cy="4589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бавление заготовок в проект и размещение его на монтажном сто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58560" y="18792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1. Импорт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96D8-3D17-4848-9425-9AEB60805D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вмещение конца первого слоя (клипа) и начала втор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39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0" descr=""/>
          <p:cNvPicPr/>
          <p:nvPr/>
        </p:nvPicPr>
        <p:blipFill>
          <a:blip r:embed="rId1"/>
          <a:stretch/>
        </p:blipFill>
        <p:spPr>
          <a:xfrm>
            <a:off x="1079640" y="1449360"/>
            <a:ext cx="6480000" cy="48578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158920" y="187920"/>
            <a:ext cx="41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2. Работа  со сло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338A-F08E-4242-8C9B-41DC2403EF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2160" y="327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33" descr=""/>
          <p:cNvPicPr/>
          <p:nvPr/>
        </p:nvPicPr>
        <p:blipFill>
          <a:blip r:embed="rId1"/>
          <a:stretch/>
        </p:blipFill>
        <p:spPr>
          <a:xfrm>
            <a:off x="754200" y="9079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57240" y="487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35" descr=""/>
          <p:cNvPicPr/>
          <p:nvPr/>
        </p:nvPicPr>
        <p:blipFill>
          <a:blip r:embed="rId2"/>
          <a:stretch/>
        </p:blipFill>
        <p:spPr>
          <a:xfrm>
            <a:off x="754200" y="3500280"/>
            <a:ext cx="2305080" cy="22939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851280" y="944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24360" y="905400"/>
            <a:ext cx="493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перь начнём добавление перехода. Перейдите на заклад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йдите пап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ойте её. появятся названия переходов, их то мы и будем добавля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95640" y="3453480"/>
            <a:ext cx="47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 линию продолжительности клипа, а затем 2 раза левой кнопкой клацни по названию переход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l Wip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7280" y="335772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86160" y="187920"/>
            <a:ext cx="45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3. Работа с переход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15ED5-BC4D-4439-B222-5C66CAC0B5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2864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836640"/>
            <a:ext cx="84596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Ang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угол с которого будет начинаться перех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глаживание границ перехода, установите его в значение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75040" y="43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37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653080" cy="4481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378160" y="187920"/>
            <a:ext cx="464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4. Настройки пере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DFB31-B38E-460B-8DAE-17E6232EDD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40" descr=""/>
          <p:cNvPicPr/>
          <p:nvPr/>
        </p:nvPicPr>
        <p:blipFill>
          <a:blip r:embed="rId1"/>
          <a:stretch/>
        </p:blipFill>
        <p:spPr>
          <a:xfrm>
            <a:off x="324000" y="873000"/>
            <a:ext cx="3348000" cy="25099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41" descr=""/>
          <p:cNvPicPr/>
          <p:nvPr/>
        </p:nvPicPr>
        <p:blipFill>
          <a:blip r:embed="rId2"/>
          <a:stretch/>
        </p:blipFill>
        <p:spPr>
          <a:xfrm>
            <a:off x="324000" y="3546360"/>
            <a:ext cx="3348000" cy="25117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64000" y="87156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виден клип 2 но его размеры не соответствуют, их можно поправить, для этого, клацните левой кнопкой мыши по линии продолжительности клипа 2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3571920"/>
            <a:ext cx="4429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 окне предварительного просмотра появятся маркеры, ухватившись за них левой кнопкой мыши растяните границы видео клипа 2 на весь экран предварительного просмот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32360" y="187920"/>
            <a:ext cx="526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5. Подгонка размеров кл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BBC6-328F-493D-B789-2DF7D563678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17080" y="187920"/>
            <a:ext cx="59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Этап 6. Экспорт и сохранение фай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8608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463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92720" y="1052640"/>
            <a:ext cx="0" cy="489564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64000" y="101484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Экспорт фай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64000" y="3680280"/>
            <a:ext cx="442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становки выходного виде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7280" y="346536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04920" y="20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46" descr=""/>
          <p:cNvPicPr/>
          <p:nvPr/>
        </p:nvPicPr>
        <p:blipFill>
          <a:blip r:embed="rId1"/>
          <a:stretch/>
        </p:blipFill>
        <p:spPr>
          <a:xfrm>
            <a:off x="539640" y="873000"/>
            <a:ext cx="3492720" cy="2484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887560" y="471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5960" y="445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49" descr=""/>
          <p:cNvPicPr/>
          <p:nvPr/>
        </p:nvPicPr>
        <p:blipFill>
          <a:blip r:embed="rId2"/>
          <a:stretch/>
        </p:blipFill>
        <p:spPr>
          <a:xfrm>
            <a:off x="755640" y="3608280"/>
            <a:ext cx="2987640" cy="29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36FB-59CC-4601-8757-40F15F6F8F0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66536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зультат монтажа учебного фильма из двух клипов «Алиса в стране чудес» и «Машина времени» в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9640" y="2349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МЕВидеоПрез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AliceFabRaskadr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8000" y="223920"/>
            <a:ext cx="789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езультат работы в программе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Adobe After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E68D4-F6EC-4E9C-ADB2-B201CCF361CA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04:21:30Z</dcterms:modified>
  <cp:revision>107</cp:revision>
  <dc:subject/>
  <dc:title>Lecture Template </dc:title>
</cp:coreProperties>
</file>